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4.gif" ContentType="image/gif"/>
  <Override PartName="/ppt/media/image12.png" ContentType="image/png"/>
  <Override PartName="/ppt/media/image23.png" ContentType="image/png"/>
  <Override PartName="/ppt/media/image2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8BD-5F9E-4472-8D21-27AE5AC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6A7-C49D-4F39-BE8D-318CEDC9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F1F-1E1D-4E17-B013-D88FEBBB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BB1-1513-4D0C-9586-3ED37E2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8B1-1739-4921-B55B-B76DE90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D093-C76A-4C68-BCF7-0823A33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644-D9B8-420C-9D33-5C3F6A6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AB8D-511F-428D-9EC3-33DABBA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06D0-CBA4-41AC-BD80-EFA05FA4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9F2-A796-4F0A-991F-7DE05924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6FB-AA9F-4094-AE3E-5D0E3F1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C6A-53AD-4EDC-9A30-5491CE68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697-204C-4421-BA05-13A965A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D7FD-6480-45CC-BF89-B73DF12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8FA1-BA0C-478D-80FC-44A160A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31EE-361E-418D-BAF8-45C26A30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1B7-9AE2-4FDA-AABC-BE281F62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5BD-5FE0-4EAA-ABFA-77BA9A8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BDF-0CD9-41A3-9EBE-3A087A6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BC5-8ECB-4117-916D-CB31155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6C0-0486-404E-A4C6-A1830E6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CB1-F92E-4B97-AFC9-A87D8BC7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70E-6035-400D-82D8-20A9EE05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645-169A-43BB-B15A-AB5AB189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74A-8A45-4E6F-ACA6-0617F6C58B0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myszka" descr=""/>
          <p:cNvPicPr/>
          <p:nvPr/>
        </p:nvPicPr>
        <p:blipFill>
          <a:blip r:embed="rId5"/>
          <a:stretch/>
        </p:blipFill>
        <p:spPr>
          <a:xfrm>
            <a:off x="0" y="0"/>
            <a:ext cx="9604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AF5-2C82-4EBF-9B75-14CCBACF897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yszka" descr=""/>
          <p:cNvPicPr/>
          <p:nvPr/>
        </p:nvPicPr>
        <p:blipFill>
          <a:blip r:embed="rId3"/>
          <a:stretch/>
        </p:blipFill>
        <p:spPr>
          <a:xfrm>
            <a:off x="0" y="0"/>
            <a:ext cx="9604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hyperlink" Target="file:///do&#347;wiadczenie.doc" TargetMode="Externa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sip.com.pl/oip/fizyka_2/animacje/galeria_u.html" TargetMode="External"/><Relationship Id="rId2" Type="http://schemas.openxmlformats.org/officeDocument/2006/relationships/hyperlink" Target="http://www.wsip.com.pl/oip/fizyka_2/animacje/galeria_u.html" TargetMode="External"/><Relationship Id="rId3" Type="http://schemas.openxmlformats.org/officeDocument/2006/relationships/hyperlink" Target="http://www.wsip.com.pl/oip/fizyka_2/animacje/galeria_u.html" TargetMode="External"/><Relationship Id="rId4" Type="http://schemas.openxmlformats.org/officeDocument/2006/relationships/hyperlink" Target="http://www.wsip.com.pl/oip/fizyka_2/animacje/galeria_u.html" TargetMode="External"/><Relationship Id="rId5" Type="http://schemas.openxmlformats.org/officeDocument/2006/relationships/hyperlink" Target="http://www.wsip.com.pl/oip/fizyka_2/animacje/galeria_u.html" TargetMode="External"/><Relationship Id="rId6" Type="http://schemas.openxmlformats.org/officeDocument/2006/relationships/hyperlink" Target="http://www.wsip.com.pl/oip/fizyka_2/animacje/galeria_u.html" TargetMode="External"/><Relationship Id="rId7" Type="http://schemas.openxmlformats.org/officeDocument/2006/relationships/hyperlink" Target="http://www.wsip.com.pl/oip/fizyka_2/animacje/galeria_u.html" TargetMode="External"/><Relationship Id="rId8" Type="http://schemas.openxmlformats.org/officeDocument/2006/relationships/hyperlink" Target="http://www.wsip.com.pl/oip/fizyka_2/animacje/galeria_u.html" TargetMode="External"/><Relationship Id="rId9" Type="http://schemas.openxmlformats.org/officeDocument/2006/relationships/hyperlink" Target="http://www.wsip.com.pl/oip/fizyka_2/animacje/galeria_u.html" TargetMode="External"/><Relationship Id="rId10" Type="http://schemas.openxmlformats.org/officeDocument/2006/relationships/hyperlink" Target="http://www.wsip.com.pl/oip/fizyka_2/animacje/galeria_u.html" TargetMode="External"/><Relationship Id="rId11" Type="http://schemas.openxmlformats.org/officeDocument/2006/relationships/hyperlink" Target="http://www.wsip.com.pl/oip/fizyka_2/animacje/galeria_u.html" TargetMode="External"/><Relationship Id="rId12" Type="http://schemas.openxmlformats.org/officeDocument/2006/relationships/hyperlink" Target="http://www.wsip.com.pl/oip/fizyka_2/animacje/galeria_u.html" TargetMode="External"/><Relationship Id="rId13" Type="http://schemas.openxmlformats.org/officeDocument/2006/relationships/hyperlink" Target="http://www.wsip.com.pl/oip/fizyka_2/animacje/galeria_u.html" TargetMode="External"/><Relationship Id="rId14" Type="http://schemas.openxmlformats.org/officeDocument/2006/relationships/slide" Target="slide1.xml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UCH CIAŁ W POLU GRAWITACYJNY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Uwagi do scenariusz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Powtórzen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W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rowadzenie do lekcj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O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dpowiedz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Co dale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5" action="ppaction://hlinksldjump"/>
              </a:rPr>
              <a:t>Spadek swobodn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R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zut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7" action="ppaction://hlinksldjump"/>
              </a:rPr>
              <a:t> pionowy w gór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R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8" action="ppaction://hlinksldjump"/>
              </a:rPr>
              <a:t>zut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9" action="ppaction://hlinksldjump"/>
              </a:rPr>
              <a:t> pozi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Doświadczen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1" action="ppaction://hlinksldjump"/>
              </a:rPr>
              <a:t>Koniec pokazu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471-E870-482A-9080-8A47D1B2F4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ODPOWIEDZ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Co nazywamy polem grawitacyjnym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ie cechy posiada siła działająca w jednorodnym polu grawitacyjnym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Podaj przykłady ciał poruszających się pod wpływem siły grawitacji w ziemskim polu grawitacyjnym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ie rozróżniasz ruchy ciał ze względu na ich prędkość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a jest przyczyna ruchu jednostajnego prostoliniowego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 określisz definicją ruch jednostajnie zmienny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Wymień rodzaje energii mechanicznej posiadanej przez ciała i je scharakteryzuj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6095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9B5-8968-4C45-840B-EEF1008E45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52680" y="685800"/>
            <a:ext cx="41911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Co dalej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133720" y="190476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Jeżeli poradziłeś sobie z pytaniami 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poznaj ruchy ciał  pod wpływe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ziemskiego pola grawitacyjneg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NA01441_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47920" y="17524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•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76520" y="2133360"/>
            <a:ext cx="75960" cy="759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676520" y="1676160"/>
            <a:ext cx="0" cy="759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864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804-B769-4768-96D3-AEFD065D2F0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SPADEK  SWOBODNY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0" y="533520"/>
            <a:ext cx="76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4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27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2361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96252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ało jest puszczone swobodnie z wysokości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i porusza się pod działaniem siły ciężkości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w dół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Jest to przykład ruchu jednostajnie przyśpieszonego prostoliniowego. Ciało porusza się bez prędkości początkowej z przyśpieszeniem ziemskim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as spadku ciała wyraża się wzorem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: t =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2h/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572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9" name="103" descr=""/>
          <p:cNvPicPr/>
          <p:nvPr/>
        </p:nvPicPr>
        <p:blipFill>
          <a:blip r:embed="rId2"/>
          <a:stretch/>
        </p:blipFill>
        <p:spPr>
          <a:xfrm>
            <a:off x="6934320" y="160020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14800" y="61722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0A7-B54B-4E28-82B3-0B28FE8492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4114800"/>
            <a:ext cx="655344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kłady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. Swobodny spadek ciał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a podstawie zasady zachowania energii możemy zapisać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2" name="43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457200"/>
            <a:ext cx="6705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Zasada zachowania energii w spadku swobod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5791320"/>
            <a:ext cx="4038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energii-slajd nr8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/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971800"/>
            <a:ext cx="38088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905120"/>
            <a:ext cx="38124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1337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200400"/>
            <a:ext cx="38124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429000"/>
            <a:ext cx="0" cy="6858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886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220968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352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A77-4F42-4467-987D-F517254B09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RZUT PIONOWY W GÓRĘ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97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7" name="28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4114800"/>
            <a:ext cx="678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zut pionowy do góry jest przykładem ruchu jednostajnie opóźnionego prostoliniowego. Prędkość w tym ruchu maleje jednostajnie w czasie. W najwyższym punkcie toru prędkość końcowa jest równa 0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440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0" name="r10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609480" cy="447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5715000"/>
            <a:ext cx="3505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0B6-24D5-40F2-8B4A-02D2F5DFDF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RZUT  POZIOMY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472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2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962240" cy="289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4800600"/>
            <a:ext cx="78487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zut poziomy jest złożeniem ruchu jednostajnie prostoliniowego w kierunku osi OX i swobodnego spadku ciała w kierunku osi OY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Zasięg rzutu (odległość od miejsca wyrzutu do miejsca upadku ) wyraża się wzorem :    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z = v</a:t>
            </a:r>
            <a:r>
              <a:rPr b="1" lang="pl-PL" sz="2000" spc="-1" strike="noStrike" baseline="-25000">
                <a:solidFill>
                  <a:srgbClr val="5b5249"/>
                </a:solidFill>
                <a:latin typeface="Times New Roman"/>
              </a:rPr>
              <a:t>o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 * 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1905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0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107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542880" cy="47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5680" y="6172200"/>
            <a:ext cx="441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05E-ADF7-4835-B2BC-F18612903D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2a3d7a"/>
                </a:solidFill>
                <a:latin typeface="Benguiat Bk BT"/>
              </a:rPr>
              <a:t>KONIEC  POKAZ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9056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DZIĘKUJĘ  ZA PRACĘ  NA LEKCJ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Opracowała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Elżbieta Warzybok , Zespół Szkó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Gastronomicznych w Gorzowie Wlk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324480"/>
            <a:ext cx="4190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77D3-4B69-4246-9226-BEF706BCC9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WAGI  DO  SCENARIUSZ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153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Lekcję „RUCH CIAŁ W POLU GRAWITACYJNYM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ożna przeprowadzić dwoma metodami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etoda pierwsza tradycyjna (ujęta w konspekcie) wymaga większego zaangażowania nauczyciela.Uczniowie wykonują doświadczenie w pracowni fizycznej z wykorzystaniem pistoletu balistyczneg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Konspekt lekcji „ruch ciał w polu grawitacyjnym”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2) Metoda druga ( ujęta na slajdach) oparta jest na samodzielnej pracy ucznia .Uczeń sam powtarza materiał , przyswaja nową wiedzę , wykonuje doświadczenie z użyciem komputer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pl-PL" sz="1600" spc="-1" strike="noStrike" u="sng">
                <a:solidFill>
                  <a:srgbClr val="5b5249"/>
                </a:solidFill>
                <a:uFillTx/>
                <a:latin typeface="Times New Roman"/>
              </a:rPr>
              <a:t>konspekt lekcji z użyciem komputera „Ruch ciał w polu grawitacyjnym”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5b5249"/>
                </a:solidFill>
                <a:latin typeface="Times New Roman"/>
              </a:rPr>
              <a:t>W obu przypadkach niezbędne jest podsumowanie lekcji przez nauczyciel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138df"/>
                </a:solidFill>
                <a:latin typeface="Times New Roman"/>
              </a:rPr>
              <a:t>                                                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 slajd nr 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EC3F-0C10-4ED4-8EAE-CCA3A2B87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Pojęcie ruch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 polega na tym, że w miarę upływu czasu zmienia się położenie ciała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 jest pojęciem względny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kreś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jąc jego występowanie zawsze musimy (chociaż w my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ch) zakładać, względem jakiego układu odniesienia opisujemy to zjawisko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 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990360" y="434340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DF7F-9901-4561-B651-BD83920512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762120"/>
            <a:ext cx="655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85800"/>
            <a:ext cx="7238880" cy="34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rem tego ruchu jest linia prosta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artość drogi jest równa wartości przemieszczenia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roga zmienia się jednostajnie w czasie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ykres drogi (wartości przemieszczenia) od czasu jest proporcjonalnością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prostą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ielkością stałą jest prędkość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kres prędkości od czasu w ruchu jednostajnym prostoliniowym jest funkcją stałą.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14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2790720" cy="1752840"/>
          </a:xfrm>
          <a:prstGeom prst="rect">
            <a:avLst/>
          </a:prstGeom>
          <a:ln w="0">
            <a:noFill/>
          </a:ln>
        </p:spPr>
      </p:pic>
      <p:pic>
        <p:nvPicPr>
          <p:cNvPr id="103" name="15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3808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2138df"/>
                </a:solidFill>
                <a:latin typeface="Times New Roman"/>
              </a:rPr>
              <a:t>RUCH  JEDNOSTAJ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438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 = v* 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181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v = s/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400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47F-BA8D-4891-AF3F-E9EDBACAA8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219320"/>
            <a:ext cx="8077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Ciało 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ak wynika z nazwy ruchu,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a. Co to jest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e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e jest to wielko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ć fizyczna wektorowa, okre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j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 przyrost prędko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 punktu materialnego do czasu, w którym ten przyrost nast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ł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spieszeni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 ruchu jednostajnie zmiennym wektor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 nie zmienia się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kres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 od czasu przedstawia się następuj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Image221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762120" cy="5335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752480" y="301932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18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2914920" cy="19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9528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3352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572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RUCH  JEDNOSTAJNIE PRZYSPIESZONY (OPÓŹNIONY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63244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C93-2C83-4310-8587-13670A3847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219320"/>
            <a:ext cx="80773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róćmy do definicji przy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o przekształceniu otrzymamy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 przyrównaniu dwóch równań do siebie 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trzymujemy równanie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est to wzór na prędko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ć w ruchu jednostajnym zmiennym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+  (ruch jednostajnie przyspieszony 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- ( ruch jednostajnie opóźniony 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Image221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533160" cy="419400"/>
          </a:xfrm>
          <a:prstGeom prst="rect">
            <a:avLst/>
          </a:prstGeom>
          <a:ln w="0">
            <a:noFill/>
          </a:ln>
        </p:spPr>
      </p:pic>
      <p:pic>
        <p:nvPicPr>
          <p:cNvPr id="118" name="Image224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733680" cy="162000"/>
          </a:xfrm>
          <a:prstGeom prst="rect">
            <a:avLst/>
          </a:prstGeom>
          <a:ln w="0">
            <a:noFill/>
          </a:ln>
        </p:spPr>
      </p:pic>
      <p:pic>
        <p:nvPicPr>
          <p:cNvPr id="119" name="Image225" descr=""/>
          <p:cNvPicPr/>
          <p:nvPr/>
        </p:nvPicPr>
        <p:blipFill>
          <a:blip r:embed="rId3"/>
          <a:stretch/>
        </p:blipFill>
        <p:spPr>
          <a:xfrm>
            <a:off x="5410080" y="2590920"/>
            <a:ext cx="857520" cy="247680"/>
          </a:xfrm>
          <a:prstGeom prst="rect">
            <a:avLst/>
          </a:prstGeom>
          <a:ln w="0">
            <a:noFill/>
          </a:ln>
        </p:spPr>
      </p:pic>
      <p:pic>
        <p:nvPicPr>
          <p:cNvPr id="120" name="Image226" descr=""/>
          <p:cNvPicPr/>
          <p:nvPr/>
        </p:nvPicPr>
        <p:blipFill>
          <a:blip r:embed="rId4"/>
          <a:stretch/>
        </p:blipFill>
        <p:spPr>
          <a:xfrm>
            <a:off x="6705720" y="2590920"/>
            <a:ext cx="96192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Image227" descr=""/>
          <p:cNvPicPr/>
          <p:nvPr/>
        </p:nvPicPr>
        <p:blipFill>
          <a:blip r:embed="rId5"/>
          <a:stretch/>
        </p:blipFill>
        <p:spPr>
          <a:xfrm>
            <a:off x="3200400" y="3048120"/>
            <a:ext cx="1676520" cy="990360"/>
          </a:xfrm>
          <a:prstGeom prst="rect">
            <a:avLst/>
          </a:prstGeom>
          <a:ln w="9360">
            <a:solidFill>
              <a:srgbClr val="2138d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666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Prędkość w ruchu zmienny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6095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7F2-9836-4D82-817F-38E475E6C5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143000"/>
            <a:ext cx="807732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Z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u jednostajnie prostoliniowego wiemy, że drogę można interpretować jako pole figury zawarte między wykresem V=f(t) a osi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zasu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by obliczyć drogę musimy obliczyć pole prostok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 i pole trójk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Stąd :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my, że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trzymujemy więc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+" - ruch jednostajnie przy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on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-" - ruch jednostajnie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 opóźnion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22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800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Image230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1562040" cy="39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Image224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733680" cy="161640"/>
          </a:xfrm>
          <a:prstGeom prst="rect">
            <a:avLst/>
          </a:prstGeom>
          <a:ln w="0">
            <a:noFill/>
          </a:ln>
        </p:spPr>
      </p:pic>
      <p:pic>
        <p:nvPicPr>
          <p:cNvPr id="129" name="Image231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157176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20" descr=""/>
          <p:cNvPicPr/>
          <p:nvPr/>
        </p:nvPicPr>
        <p:blipFill>
          <a:blip r:embed="rId5"/>
          <a:stretch/>
        </p:blipFill>
        <p:spPr>
          <a:xfrm>
            <a:off x="1066680" y="3733920"/>
            <a:ext cx="1314720" cy="4190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752480" y="2286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Droga w ruchu zmien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581280"/>
            <a:ext cx="5029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Jest to wzór na przebytą drogę w ruchu jednostajnie zmien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558-58E4-4512-BA21-01FD22E1AB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-351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ENERGI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jest formą wykonania przez układ lub nad układem pewnej pracy.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jest wielkością skalarną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stępują następujące rodzaje energii mechanicznej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kinetyczna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990033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 = m *v</a:t>
            </a:r>
            <a:r>
              <a:rPr b="0" lang="pl-PL" sz="24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/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ę kinetyczną posiadają ciała będące w ruchu</a:t>
            </a:r>
            <a:r>
              <a:rPr b="0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lkością charakteryzującą energię kinetyczną jest prędkość V ciała.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kinetyczna jest równa pracy, jaką trzeba wykonać, aby ciału pozostającemu w spoczynku nadać prędkoś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potencjaln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pl-PL" sz="2400" spc="-1" strike="noStrike" baseline="-25000">
                <a:solidFill>
                  <a:srgbClr val="990033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 = m* g * 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ę potencjalną posiadają ciała znajdujące się na pewnej wysokości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lkością charakteryzującą energię potencjalną jest wysokość h.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od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ziomu,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gdzie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mownie  h=0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potencjalna jest równa pracy potrzebnej do podniesienia ciała na pewną wysokość h z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poziomu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gdzie h=0.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172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2DF6-1F79-4743-850F-81DC364530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1227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e grawitacyj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to cecha przestrzeni polegająca na tym, że na ciała posiadające masę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</a:rPr>
              <a:t>umieszczone w tej przestrzeni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ziałają siły grawitacyjn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mownie pole grawitacyjne przedstawiamy graficznie za pomocą linii pola grawitacyjnego. Linie pola grawitacyjnego są to linie będące odzwierciedleniem torów, po których porusza się ciało pod działaniem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ły grawitacyjnej</a:t>
            </a:r>
            <a:r>
              <a:rPr b="1" i="1" lang="pl-P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jest polem centralnym, tzn. takim, że źródło tego pola znajduje się w jego środku, a linie pola schodzą się promieniście do środka masy ciała wywołującego to pole.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jest też polem zachowawczym, tzn. takim, że praca wykonana przy przesuwaniu ciał nie zależy od drogi, a jedynie od przemieszczenia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ego ciała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4"/>
              </a:rPr>
              <a:t>wsip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6"/>
              </a:rPr>
              <a:t>com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8"/>
              </a:rPr>
              <a:t>pl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0"/>
              </a:rPr>
              <a:t>oip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1"/>
              </a:rPr>
              <a:t>/fizyka_2/animacje/galeria_u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2"/>
              </a:rPr>
              <a:t>html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3"/>
              </a:rPr>
              <a:t>#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601992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4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5361-F1CC-4B20-A06F-3FBE8FB9DE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3:34:35Z</dcterms:created>
  <dc:creator>student4c</dc:creator>
  <dc:description/>
  <dc:language>en-US</dc:language>
  <cp:lastModifiedBy>WOM Gorzów Wlkp.</cp:lastModifiedBy>
  <dcterms:modified xsi:type="dcterms:W3CDTF">2003-03-07T00:44:49Z</dcterms:modified>
  <cp:revision>74</cp:revision>
  <dc:subject/>
  <dc:title>Rzuty ciał w polu grawitacyjnym</dc:title>
</cp:coreProperties>
</file>